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76C-9B3F-4162-8F46-F0908DCA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031-811E-43C6-81DE-1C9960D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349-D984-4BD9-B3CC-EAE38F8A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613-BA93-42D9-BD47-61C21E6B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6E9-90A3-4B11-BC9D-2EB927CD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A74-5948-4B19-95AB-E99ED2F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285-EB35-4B49-8BEA-77BA2282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CBD-F6BC-427D-80B1-3B07FF8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A43-2748-4BC0-BBC6-30687E3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160-B57C-41B8-A35C-C4C5A635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9BB-F7BE-4E3D-8A71-F4668783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8E4-9014-42C5-9271-0709A661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F3E5-AC6E-420C-8AD9-2A921F1B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289080" y="936360"/>
            <a:ext cx="161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0666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Homework and Pract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Varies Based On Grad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Parental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Should Be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signed, It Should Be Commented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0160" y="45720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y Requires Focus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Should Adapt And Shape What Students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5:41:21Z</dcterms:created>
  <dc:creator>workstation</dc:creator>
  <dc:description/>
  <dc:language>en-US</dc:language>
  <cp:lastModifiedBy>workstation</cp:lastModifiedBy>
  <dcterms:modified xsi:type="dcterms:W3CDTF">2010-08-03T15:59:52Z</dcterms:modified>
  <cp:revision>2</cp:revision>
  <dc:subject/>
  <dc:title>Homework and Practice</dc:title>
</cp:coreProperties>
</file>